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5FCF-80F9-42CE-B857-4CD86C487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3736-6DA1-4B2E-9C2A-82558A987A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2D3-9E95-4C64-AD27-663D6B5EE05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838C-7562-4CA3-9AE1-49C6674877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0A7A-E99D-467E-9A88-4A76D298E4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5EBA-A6EA-4247-B694-18A3039F85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67F2-B28D-42E3-8932-F979F3F1C1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625F-7C72-4E2D-9D49-4110924D84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DFC8-1568-496C-A080-C6D4FBD5BD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C5AE-8C38-46C4-BD61-99F339B05A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97BE-85C5-411A-ACDF-566E006B4B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6B1D-2F82-4ADB-A457-3F23F2C0EC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93C-5A92-4C05-A313-767F4665D1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817E-D008-4B62-8F70-3C37950C50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462A-0C2C-4273-ACF5-73807C88A4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47F5-08C0-4635-9AEA-1E24898D8A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628C-2F4E-4CF0-888C-11E2C45403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BEDE-D813-4F94-99F2-8AEB9AE83A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196B-B421-44B8-80F5-EB47D33784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9C6A-9D68-40CA-8B08-639138064E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B90C-6AF3-4C62-94D5-DC702C2C12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FE9D-8244-4B0F-934D-151089C04B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337-995B-48E2-A565-C770AD76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669A-2F3F-428C-AC5B-5476193F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BD8-BA94-499D-8771-383BD0C3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1F5-8EF5-4EB2-960A-3953085B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1DC4-313B-45F0-ADC6-84D496E7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D78A-2ABA-4F6E-B6C2-5DE2A9A4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944-2D01-496D-B6A1-171E1C66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E33F-E6D8-44B0-AD28-B31D24D4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39E9-2ADE-4A42-8FE3-10767619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7E22-466B-40FC-9124-48438FAE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9521-DA3D-4BD4-A109-E518572A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49A-CA00-486F-B136-882B4BFC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19AA-E02A-47BF-BD11-F3C99BC7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B998-53DC-4D49-836F-E9894EA9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D7C3-AAB1-4AAF-A2FA-5CB5F022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1DEA-1363-4EDD-91F8-E49E67D7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0934-8598-418B-86ED-1C83B636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FF70-8C58-4E8B-A634-28DAF3F7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FF01-00E9-4561-8D77-0389B1C2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9531-78C2-44C7-896B-27190671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CD63-1F11-4355-9E65-8E89092B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C510C-4399-4BC1-8232-0AC153ED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587-8134-4739-9EBB-453E324E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9615-88E7-41CF-BF31-FC7C7D76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2152-6562-4A0D-84D5-4F812697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7B65-FE68-4567-BDB4-8549E9E2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B1AE-BD04-40DF-9C76-07F7532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2AF4B-CBF3-40D9-8C01-4AC26A0A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3EDB-E377-4C70-84A1-AB22169C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13A90-233E-4221-94FC-93079571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4B168-3CAC-43B2-9293-CA4F7B43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8CBA3-A544-4DE1-95E4-A86BC4DE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F1766-680A-41D4-A594-A29C9A9C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1F3-D316-4EA4-81E7-79980ACB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D7C4-1C91-448E-B11F-F8E2D7E4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A91E8-46D5-4F1D-88DF-A3931066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AB19-2513-4A84-A371-8CE6FF19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613B-8AE5-4EE4-B0C7-C6BC6BE8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5F965-14AE-4638-BD93-D5DFE28A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0DA29-D649-4717-949C-D8E34CE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0CAA-B8C3-4E70-BF76-15797772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A5F0E-FE2B-4690-AD44-0D141C72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2438-0BF0-4F51-BD43-A874E4DB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29523-CCDB-40CD-ACC1-0210E4E9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BEB-07A5-4B97-AEC4-5932333F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9E512-0E66-4B24-A534-7F2D4C4B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5E40D-A77D-4F6A-B35E-5E281755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247D7-06A9-4182-81CD-389AD373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44BAB-C934-480E-911C-F11F387B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BA345-98B7-4164-8BBC-8F68CCFE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CDDB5-16DA-4504-B75A-3FCA4BD9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46CC5-5C68-4D94-B543-037942A8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11DA-3B8A-42BD-9DCE-179EB97F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32FD9-23B4-4BCD-9524-70C2C13A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B07C-4EFB-4A3C-AF79-9F4812C0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FD2-D610-43AB-ADA0-579109D0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C4E1A-B38F-4C26-896E-1E5E7D10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9966-8700-4E35-9A5B-8C6D3113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89DEB-177D-492C-A0AD-AE1BE30E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0233D-F656-49F5-BA16-718831E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B25F8-84E2-4CB5-9900-04C1737C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7BDF5-4A53-4ADF-8AD6-7254F51C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69A69-99EC-4D3D-BCDD-B0F77E95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A74DD-F695-4DB8-BECC-5EDDF3F8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9321F-95CF-4CBB-8886-79E5EA5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29BC4-B312-42D8-9EF3-AB14D71F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EBF-C63D-4301-B639-552FB99C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9314E-7E0D-4D24-A1BD-7E0137B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A3BFA-3653-4E61-BC77-895CD4CA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3804-8718-4DB4-B2BB-730781E5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C0EF2-43DF-441E-8FE0-6F8391BD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91A86-70B4-46E0-BFD2-DE919643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0A151-3C4F-474F-8485-23639E8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ED8BC-CE6B-4928-A2C5-1A771C0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9DABF-A811-4330-BE7D-24E25E25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77F2B-BEE0-43E0-8FBE-5CB8F406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268A6-F45A-47CB-9B00-4B1FE547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B152-FC4B-4263-A30F-A50380E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1E5B8-5813-413F-8BE4-BAA846AA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67B36-BF34-47C4-A657-5227A23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AF17-E0DD-4960-8D95-80CBDC00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160E9-DD84-4FC4-B15F-0DE3EE74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63EDA-2526-4937-BC8D-99B1E2EF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0127E-5624-422F-AFE7-ACC81DB4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28873-F312-4C7A-89CB-66F54DFD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9D543-4F12-4BA1-8AD6-58021E6E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EF7F0-52B1-495D-9316-4690AD01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45F5E-396F-444F-96A9-56C22871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98E-CCF0-4521-BCAE-1A7ACB6C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77E6C-5C48-49A1-8EC0-5BB02215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08E8E-7B77-4BE7-9922-E483548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CB8F5-8E0E-44FF-9D16-4B0022F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2C033-C318-4A07-AE7E-E03BE18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E0FEC-8635-457F-A35E-1072DD3D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6F544-AF1C-40EE-94BD-55309C42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70C94-DC20-438C-B2B2-0098228A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5CBE-8007-4DB9-A150-1D6740362E5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0101"/>
              </a:gs>
              <a:gs pos="100000">
                <a:srgbClr val="ff6c6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73DE-2B92-4FCD-BBFE-3FE854C8A38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A275-5494-4381-9DF7-0A7625EAE8B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0101"/>
              </a:gs>
              <a:gs pos="100000">
                <a:srgbClr val="ff6c6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B3AC-9216-4D4E-93B6-9D896AB1CE6C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4B42-78DA-4540-B5D8-8EBE8D62F01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83E7-6728-4372-9F1C-F55D58F065B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32F1-98EE-4673-8E85-5AC1671C6B1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682560" y="1341360"/>
            <a:ext cx="7778880" cy="2925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1A2E-0A04-4EDD-A409-9E856A23A1EB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20B8-97E5-4399-8DEF-BC55490A7699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69800" y="1773360"/>
            <a:ext cx="8388360" cy="1708200"/>
          </a:xfrm>
          <a:prstGeom prst="rect">
            <a:avLst/>
          </a:prstGeom>
          <a:ln w="0">
            <a:noFill/>
          </a:ln>
        </p:spPr>
      </p:pic>
      <p:pic>
        <p:nvPicPr>
          <p:cNvPr id="354" name="Subtitle 2" descr=""/>
          <p:cNvPicPr/>
          <p:nvPr/>
        </p:nvPicPr>
        <p:blipFill>
          <a:blip r:embed="rId2"/>
          <a:stretch/>
        </p:blipFill>
        <p:spPr>
          <a:xfrm>
            <a:off x="469800" y="3645000"/>
            <a:ext cx="822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75920"/>
            <a:ext cx="8229600" cy="597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IEUX DE RENCONTR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APAA, dans les bars/Clubs pour gay, restaurant pour gay et aussi sur la rue Church qui est le village ga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Sont-ils acceptes ou rejeté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Il n’y a des mythes dans toutes sociétés, mais ici au Canada ils font face à moins de risque de rejet comparer à leur pays d’orig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450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s en place pour desservir les nouveaux arrivants  Africains, les Caribéens et les Noirs au Canada,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insi que les personnes qui s’identifient comme (LGBTQ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ans oublier ceux qui s’identifient autres que LGBTQ, ce sont les hommes ayant le sexe avec les hommes (HSH)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7576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6600"/>
                </a:solidFill>
                <a:latin typeface="Century Gothic"/>
              </a:rPr>
              <a:t>VIH: </a:t>
            </a:r>
            <a:r>
              <a:rPr b="1" lang="fr-CA" sz="3000" spc="-1" strike="noStrike" u="sng">
                <a:solidFill>
                  <a:srgbClr val="006600"/>
                </a:solidFill>
                <a:uFillTx/>
                <a:latin typeface="Century Gothic"/>
              </a:rPr>
              <a:t>Virus d’Immunodéficience Hum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6600"/>
                </a:solidFill>
                <a:latin typeface="Century Gothic"/>
              </a:rPr>
              <a:t>Attaque et affaiblit le système immunitai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6600"/>
                </a:solidFill>
                <a:latin typeface="Century Gothic"/>
              </a:rPr>
              <a:t>SIDA: </a:t>
            </a:r>
            <a:r>
              <a:rPr b="1" lang="fr-CA" sz="3000" spc="-1" strike="noStrike" u="sng">
                <a:solidFill>
                  <a:srgbClr val="006600"/>
                </a:solidFill>
                <a:uFillTx/>
                <a:latin typeface="Century Gothic"/>
              </a:rPr>
              <a:t>Syndrome d’Immunodéficience Acqui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6600"/>
                </a:solidFill>
                <a:latin typeface="Century Gothic"/>
              </a:rPr>
              <a:t>Une maladie chronique causée par l’infection du VIH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liquides corporels qui transmettent le VI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sang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sperm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liquide recta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secrétions vaginal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lait matern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modes de transmissions du VI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relations sexuelles non protégé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partage des accessoires sexuel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partage ou la réutilisation des seringues et des aiguill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D’un mère à son fœtus durant la grossesse, l’accouchement ou l’allaitem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2644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68000" y="1341360"/>
            <a:ext cx="8218440" cy="511344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 bais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peuvent se trouver dans la saliv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peuvent se transmettre par des coupures ou des plaies dans la bou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 touch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causent des bosses, des éruptions cutanée ou du pu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 or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De nombreuses ITS peuvent se trouver dans les fluides génitaux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s vagin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liquides corporels peuvent contenir tout type d’IT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s an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2060"/>
                </a:solidFill>
                <a:latin typeface="Century Gothic"/>
              </a:rPr>
              <a:t>La meilleure protection contre les ITS est de s’absteni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2060"/>
                </a:solidFill>
                <a:latin typeface="Century Gothic"/>
              </a:rPr>
              <a:t>Autres méthod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es préservatifs (féminins et masculins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’usage de seringue  uniqu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a fidélit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’isolem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pleine intég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problème d’immigration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fréquent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stigma et la discrimin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jugement et le mépris de la communaut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pauvret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95280" y="1628640"/>
            <a:ext cx="8291520" cy="482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entury Gothic"/>
              </a:rPr>
              <a:t>Le succès de l’organisation dans le domaine de servir la communauté LGBTQ Africaine et Caraibéenne, est dû à l’approche culturelle et linguistique que nous avons au sein d’APA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baba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PA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 une organisation qui fait de son mieux pour éduquer et véhiculer l’information sur le VIH ainsi que le support à toutes les couches de la communauté Africain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e lance donc un appel ardent à tous et à toutes de travailler ensemble pour aider à la bonne integration  des nouveaux arrivants LGBTQ francophones au Canad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Merci beaucoup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de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votre atten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57736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entury Gothic"/>
              </a:rPr>
              <a:t>Africans in Partnership Against AIDS (APAA) est une organisation  canadienne à but non lucratif créé par les membres de la communauté africaine, pour répondre aux différents défis posés par le VIH/SIDA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Century Gothic"/>
              </a:rPr>
              <a:t>Questions? 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0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Veuillez contacter: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Africans in Partnership Against Aid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314 rue Jarvis Suite 10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Toronto, Ontario M5B 2C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416-924-522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95280" y="1844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ôle de premier pl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eaderhip communautair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Expertise sur les questions  du SID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300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Century Gothic"/>
              </a:rPr>
              <a:t>Madame Fanta Ongoiba, Directrice générale d’APAA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628640"/>
            <a:ext cx="8229600" cy="4826160"/>
          </a:xfrm>
          <a:prstGeom prst="rect">
            <a:avLst/>
          </a:prstGeom>
          <a:solidFill>
            <a:srgbClr val="ffb8f2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Éduquer et soutenir les patients atteints du VIH / SIDA  dans un contexte linguistique et culturel approprié aux peuples africain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Créer une organisation et une communauté stable pour répondre à l'impact des effets du VIH / SIDA à travers le développement, le partenariat, la croissance et le développement communautai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especter les valeurs et les traditions culturelles et  répondre aux besoins de servic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 u="sng">
                <a:solidFill>
                  <a:srgbClr val="000099"/>
                </a:solidFill>
                <a:uFillTx/>
                <a:latin typeface="Century Gothic"/>
              </a:rPr>
              <a:t>L’immigration des Noir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ébute en160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e 1628  à 1800 : Esclaves Noirs sur la côte Es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À partir de 1900 :le nombre d’immigrants augment lentement,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ès 1960 : Augmentation considérable avec la réforme de politique d’immigrat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Qui so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D’où vienne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s’identifie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reconnait-on un LGBTQ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bien arrivent-ils en moyenne chaque anné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Lieux de rencont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Programme LGBTQ à APA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68000" y="259920"/>
            <a:ext cx="8218440" cy="619452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Qui so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Ils sont des Afro-Caribéens qui s’identifient  comme Lesbiennes, Gays, Bisexuels, Transexuels et en questionne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D’où viennent-il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	</a:t>
            </a: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Des divers pays d’Afrique et des Caraïb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Comment s’identifient-il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Se voient différents des autres de par leur orientation sexuell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2" descr=""/>
          <p:cNvPicPr/>
          <p:nvPr/>
        </p:nvPicPr>
        <p:blipFill>
          <a:blip r:embed="rId1"/>
          <a:stretch/>
        </p:blipFill>
        <p:spPr>
          <a:xfrm>
            <a:off x="-85680" y="1895400"/>
            <a:ext cx="2878200" cy="1139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96840" y="4127400"/>
            <a:ext cx="2232000" cy="2187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3"/>
          <a:stretch/>
        </p:blipFill>
        <p:spPr>
          <a:xfrm>
            <a:off x="6523200" y="4127400"/>
            <a:ext cx="2541600" cy="2187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4"/>
          <a:stretch/>
        </p:blipFill>
        <p:spPr>
          <a:xfrm>
            <a:off x="92160" y="262080"/>
            <a:ext cx="2431800" cy="1884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5"/>
          <a:stretch/>
        </p:blipFill>
        <p:spPr>
          <a:xfrm>
            <a:off x="6480000" y="262080"/>
            <a:ext cx="2584800" cy="2279520"/>
          </a:xfrm>
          <a:prstGeom prst="rect">
            <a:avLst/>
          </a:prstGeom>
          <a:ln w="0">
            <a:noFill/>
          </a:ln>
        </p:spPr>
      </p:pic>
      <p:sp>
        <p:nvSpPr>
          <p:cNvPr id="372" name="Title 2"/>
          <p:cNvSpPr/>
          <p:nvPr/>
        </p:nvSpPr>
        <p:spPr>
          <a:xfrm>
            <a:off x="6394320" y="2428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G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itle 2"/>
          <p:cNvSpPr/>
          <p:nvPr/>
        </p:nvSpPr>
        <p:spPr>
          <a:xfrm>
            <a:off x="-158760" y="6046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Bisex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tle 2"/>
          <p:cNvSpPr/>
          <p:nvPr/>
        </p:nvSpPr>
        <p:spPr>
          <a:xfrm>
            <a:off x="6410160" y="6046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Transex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itle 2"/>
          <p:cNvSpPr/>
          <p:nvPr/>
        </p:nvSpPr>
        <p:spPr>
          <a:xfrm>
            <a:off x="3168720" y="4233960"/>
            <a:ext cx="274788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Questio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6"/>
          <a:stretch/>
        </p:blipFill>
        <p:spPr>
          <a:xfrm>
            <a:off x="3462480" y="1932120"/>
            <a:ext cx="2157120" cy="26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000" y="259920"/>
            <a:ext cx="821844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Content Placeholder 2"/>
          <p:cNvSpPr/>
          <p:nvPr/>
        </p:nvSpPr>
        <p:spPr>
          <a:xfrm>
            <a:off x="684360" y="476280"/>
            <a:ext cx="8218440" cy="619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reconnait –on un LGBTQ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Il n’ya pas une façon ou une autre de comment reconnaitre un LGBTQ, car ils sont comme tout le monde, par contre d’autres s’affichent par leurs façons de faire ou d’agi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Combien arrivent-ils en moyen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A APAA nous voyons 18 personnes en moyenne par mois et, ils sont entre 18 à 30 ans et plus tous, africains et caribéens en majorité de religion chrétienn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9:17:27Z</dcterms:created>
  <dc:creator>felsoni</dc:creator>
  <dc:description/>
  <dc:language>en-US</dc:language>
  <cp:lastModifiedBy>ltshiswaka</cp:lastModifiedBy>
  <dcterms:modified xsi:type="dcterms:W3CDTF">2013-11-11T22:04:22Z</dcterms:modified>
  <cp:revision>141</cp:revision>
  <dc:subject/>
  <dc:title>Comportement sexuel relatif au VIH/SIDA</dc:title>
</cp:coreProperties>
</file>